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0F1-4E5E-4262-B0C8-AEFEB460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34E-F56D-4085-91FE-1DE7FDD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9F7-A67B-4D89-B60C-8585E853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8C6-B212-410D-BC97-FC530A82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618-6871-4EE7-A326-98D986F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70D-F4B0-4F3B-AFA4-443145F7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357-C19B-4130-961A-7F996DA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81A-F291-4C0E-9FCE-960D9E28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8B0-7526-4963-8C16-A6493EF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F82-6ACC-4B1B-A0FD-5F65593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881-D38B-415F-8273-2588FE5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CB8-2A45-4155-8348-0F654CF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A88-2B7A-48B2-8675-C49D1C59D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 18 DCS Even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selection criteria for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 @ 15 minutes - NERC DCS evalu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CWG % of Oblig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 @ 10 minutes after RRS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Performance Monitoring Criteria 6.10.5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SEs Se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QSEs selected based on snapshot 15 min after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ng S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bligation below 95% in P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ing RRS Performance Monitoring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QSE selected based on snapshot 10 min after RRS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ng S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ing RRS Performance Monitoring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Q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5530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SE Respons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/ Communications Issue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 Issues / Mechanical Failure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Problems / Unit trip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Investigation Require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/ Telemetry Issu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Some QSE’s indicated multipl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3:46Z</dcterms:created>
  <dc:creator>lrobinson</dc:creator>
  <dc:description/>
  <dc:language>en-US</dc:language>
  <cp:lastModifiedBy>mhenry</cp:lastModifiedBy>
  <dcterms:modified xsi:type="dcterms:W3CDTF">2004-12-02T16:11:20Z</dcterms:modified>
  <cp:revision>6</cp:revision>
  <dc:subject/>
  <dc:title>Aug 18 Event Update</dc:title>
</cp:coreProperties>
</file>